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0CB-57B8-483E-8EFA-C522B2C6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ABD-9845-427B-BD3A-DB6C642C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153-DA3D-47E5-97F5-646862AD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BD4-E2ED-4DA8-A287-B5A63701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70A-A90C-43E7-8BBF-B46F0F16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7174-53E9-4CC6-9719-03F8959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9204-3234-419E-8EC0-779B2BAD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600D-8046-4FB4-8E8D-9B35947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6208-E6A8-42B4-AF12-782C017C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D59D-B552-4FA8-8BAA-9DFA3D6D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449D-D9BC-4CC0-846E-149EACF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46E-F62F-4794-A7AC-83A9AED8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D3A-B67D-43FB-A26D-BD6D2AD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0A6-1918-4D79-9BD8-B6A0B79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954-6092-4CED-B839-70623EE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8B3-3F69-49A6-A753-91D67234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202-6E51-4521-9588-E4AFAD65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D8C-68F9-44E5-BEED-1C4AD0C7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A1B-4C3B-477A-873C-305D2D6F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F09-BC28-4D25-83E0-1B45E58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C67-A1ED-4E13-AFA5-6AD08672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0C0-A140-4DFB-941A-22F6F48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C9C-B5DB-4F70-94CA-C0556D4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CA1-FADF-4CE6-9033-9FFE01F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D62-5130-494F-AD10-A06ACEC3834A}" type="slidenum">
              <a:rPr b="0" lang="en-US" sz="14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F3B-0CB9-4C9F-99F2-2F4770781141}" type="slidenum">
              <a:rPr b="0" lang="en-US" sz="14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Palatino"/>
              </a:rPr>
              <a:t>Poets choose to write about topics that are important to them.</a:t>
            </a:r>
            <a:br>
              <a:rPr sz="4400"/>
            </a:b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41680" y="5105520"/>
            <a:ext cx="241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352680"/>
            <a:ext cx="76197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272776"/>
                </a:solidFill>
                <a:latin typeface="Palatino"/>
              </a:rPr>
              <a:t>Discovering where these topics come from is essential.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272776"/>
                </a:solidFill>
                <a:latin typeface="Palatino"/>
              </a:rPr>
              <a:t>According to Georgia Heard, “part of the process of being a poet and living our lives as poets, is finding where poems hide from us.”</a:t>
            </a:r>
            <a:endParaRPr b="1" lang="en-US" sz="43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250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You might find poetry </a:t>
            </a:r>
            <a:r>
              <a:rPr b="1" lang="en-US" sz="3600" spc="-1" strike="noStrike">
                <a:solidFill>
                  <a:srgbClr val="7f97c2"/>
                </a:solidFill>
                <a:latin typeface="Palatino"/>
              </a:rPr>
              <a:t>hiding</a:t>
            </a: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 in hundreds of different places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They might be in unexpected places or in </a:t>
            </a:r>
            <a:r>
              <a:rPr b="1" lang="en-US" sz="4000" spc="-1" strike="noStrike">
                <a:solidFill>
                  <a:srgbClr val="272776"/>
                </a:solidFill>
                <a:latin typeface="Palatino"/>
              </a:rPr>
              <a:t>everyday</a:t>
            </a: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 things that are right in front of us.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Read the following poem to see </a:t>
            </a: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where poetry hides for the poet </a:t>
            </a: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Naomi Shihab Nye.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“Valentine for Earnest Mann”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….poems hide. In the bottom of our shoes,</a:t>
            </a: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They are sleeping.  They are the shadows</a:t>
            </a:r>
            <a:br>
              <a:rPr sz="3100"/>
            </a:br>
            <a:r>
              <a:rPr b="1" lang="en-US" sz="3100" spc="-1" strike="noStrike">
                <a:solidFill>
                  <a:srgbClr val="272776"/>
                </a:solidFill>
                <a:latin typeface="Palatino"/>
              </a:rPr>
              <a:t>Drifting across our ceilings the moment before we wake up…</a:t>
            </a:r>
            <a:endParaRPr b="1" lang="en-US" sz="31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Think about where poetry hides for 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W. S. Merwin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Inside this pencil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Crouch words that have never been written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Never been spoken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Never been though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They’re hiding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They’re awake in there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Dark in the dark</a:t>
            </a:r>
            <a:br>
              <a:rPr sz="3200"/>
            </a:b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Hearing us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38440" y="12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To help you find where </a:t>
            </a:r>
            <a:r>
              <a:rPr b="0" lang="en-US" sz="3600" spc="-1" strike="noStrike">
                <a:solidFill>
                  <a:srgbClr val="df8f74"/>
                </a:solidFill>
                <a:latin typeface="Palatino"/>
              </a:rPr>
              <a:t>your</a:t>
            </a:r>
            <a:r>
              <a:rPr b="0" lang="en-US" sz="3600" spc="-1" strike="noStrike">
                <a:solidFill>
                  <a:srgbClr val="272776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272776"/>
                </a:solidFill>
                <a:latin typeface="Palatino"/>
              </a:rPr>
              <a:t>poetry is hiding, you should think about the objects  and places that surround you.  Consider your passions, obsessions, and concerns. Finally reflect on specific moments in your life.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Car games we play while traveling to soccer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On the pages of the book I just read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my closet - if my clothes could talk. 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our family dinner conversations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the picture albums that tell our stories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my actions that remind me of my mother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the friendships I have cultivated. 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the sweet tooth that must be kept under lock and key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the golf club that forgives the swinger.</a:t>
            </a:r>
            <a:br>
              <a:rPr sz="2400"/>
            </a:br>
            <a:r>
              <a:rPr b="1" lang="en-US" sz="2400" spc="-1" strike="noStrike">
                <a:solidFill>
                  <a:srgbClr val="272776"/>
                </a:solidFill>
                <a:latin typeface="Comic Sans MS"/>
              </a:rPr>
              <a:t>In the tears of my daughter when trying to be forgiven.</a:t>
            </a:r>
            <a:endParaRPr b="1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mic Sans MS"/>
              </a:rPr>
              <a:t>This is an example of Where Poetry Hides</a:t>
            </a:r>
            <a:br>
              <a:rPr sz="2400"/>
            </a:b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0666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286000"/>
            <a:ext cx="776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Palatino"/>
              </a:rPr>
              <a:t>Nancy Atwell says, “You should think of this as a treasure hunt of your life and you are looking for the jewels. “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Now you are ready to start </a:t>
            </a:r>
            <a:r>
              <a:rPr b="1" lang="en-US" sz="3200" spc="-1" strike="noStrike">
                <a:solidFill>
                  <a:srgbClr val="df8f74"/>
                </a:solidFill>
                <a:latin typeface="Palatino"/>
              </a:rPr>
              <a:t>your </a:t>
            </a: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list of </a:t>
            </a:r>
            <a:r>
              <a:rPr b="1" lang="en-US" sz="3200" spc="-1" strike="noStrike" u="sng">
                <a:solidFill>
                  <a:srgbClr val="272776"/>
                </a:solidFill>
                <a:uFillTx/>
                <a:latin typeface="Palatino"/>
              </a:rPr>
              <a:t>Where Poetry Hides</a:t>
            </a:r>
            <a:r>
              <a:rPr b="1" lang="en-US" sz="3200" spc="-1" strike="noStrike">
                <a:solidFill>
                  <a:srgbClr val="272776"/>
                </a:solidFill>
                <a:latin typeface="Palatino"/>
              </a:rPr>
              <a:t>. 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7:49:10Z</dcterms:created>
  <dc:creator>AAPS</dc:creator>
  <dc:description/>
  <dc:language>en-US</dc:language>
  <cp:lastModifiedBy>Chuck Hatt</cp:lastModifiedBy>
  <dcterms:modified xsi:type="dcterms:W3CDTF">2006-03-27T20:10:13Z</dcterms:modified>
  <cp:revision>63</cp:revision>
  <dc:subject/>
  <dc:title>PowerPoint Presentation</dc:title>
</cp:coreProperties>
</file>